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FE7A-BF0F-4FE9-8E36-15E077FCC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8B4F-43F6-43FD-8352-C761A80C4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3F50-D34F-4F23-B99A-DC7F035CC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D5CF-1A77-436E-8C85-EDD091BFF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E2E4-C555-40EE-89D5-53D2EA1E7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6E0A-5699-4C66-8A62-AB1007280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AFD5-0F99-4A5F-AA32-69E539499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4609-39F5-429D-8CCF-F2F6219D3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B585-8186-4603-9D39-590D49418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2575-70F8-45EA-833A-B4C76F9C6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1975-0EAA-43E7-BC40-E32E15168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1466-DE10-41DB-82C3-220682534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FB383-8158-429B-8B41-8FA92705AB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arky the Robotic Do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y: Mike Gerh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DL Fall 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. A.A. Arroy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advantages of my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’t step over th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 Go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lk Forward, Backward, Left and R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nly 4 -- 42oz/in ser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oid obsta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pond to voice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nly one that I didn’t meet due to an unfortunate accident with a rather pricey voice mo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ch Spe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katronix TJPRO motherboard with a Motorola 68HC11A1 in expanded mode with 32kB 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 -- 42 oz/in servos by Diamond hacked into PWM controlled gearhead mo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 -- Sharp IR receivers  hacked for an analog output with two IR LED’s for obstacle avoid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 -- Radio Shack IR emitter/detector pairs used as motor feedback for leg synchron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mitter/detector pair schemat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#276-142 Radio Shack emitter/detector pair shown in 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114800" y="2895480"/>
          <a:ext cx="4038480" cy="39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2895480"/>
                    <a:ext cx="403848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a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rky walks by moving opposing pairs of le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pair is synchronized using the IR emitter/detector pairs for once per cycle synchron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590920" y="4800600"/>
            <a:ext cx="3291840" cy="914400"/>
            <a:chOff x="2590920" y="4800600"/>
            <a:chExt cx="3291840" cy="914400"/>
          </a:xfrm>
        </p:grpSpPr>
        <p:sp>
          <p:nvSpPr>
            <p:cNvPr id="75" name=""/>
            <p:cNvSpPr/>
            <p:nvPr/>
          </p:nvSpPr>
          <p:spPr>
            <a:xfrm>
              <a:off x="2590920" y="4800600"/>
              <a:ext cx="128016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682360" y="4892040"/>
              <a:ext cx="274320" cy="182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682360" y="5440680"/>
              <a:ext cx="274320" cy="182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05320" y="4892040"/>
              <a:ext cx="274320" cy="182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05320" y="5440680"/>
              <a:ext cx="274320" cy="182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602600" y="4800600"/>
              <a:ext cx="128016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694400" y="4892040"/>
              <a:ext cx="274320" cy="182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694400" y="5440680"/>
              <a:ext cx="274320" cy="182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517360" y="4892040"/>
              <a:ext cx="274320" cy="182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517360" y="5440680"/>
              <a:ext cx="274320" cy="182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havi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lks forward and backw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rns left and r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oids obsta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s “scared” when the reprimand transmitter is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arky the Robotic Do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y: Mike Gerh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y a robotic do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y this desig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sign go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ch Spe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ga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havi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this desig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hoices in the robotic dog market are limi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of the robotic dogs that I have seen in my research have been either too expensive and complicated for realistic purposes or very basic walk forward to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this desig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e of program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andable plat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Expensive Alterna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BO by So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robot can do everything that a real dog can and m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should at a price tag of $2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Y limited relea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aibo" descr=""/>
          <p:cNvPicPr/>
          <p:nvPr/>
        </p:nvPicPr>
        <p:blipFill>
          <a:blip r:embed="rId1"/>
          <a:stretch/>
        </p:blipFill>
        <p:spPr>
          <a:xfrm>
            <a:off x="685800" y="3124080"/>
            <a:ext cx="38862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nexpensive Alterna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1001781f" descr=""/>
          <p:cNvPicPr/>
          <p:nvPr/>
        </p:nvPicPr>
        <p:blipFill>
          <a:blip r:embed="rId1"/>
          <a:stretch/>
        </p:blipFill>
        <p:spPr>
          <a:xfrm>
            <a:off x="2057400" y="1905120"/>
            <a:ext cx="5029200" cy="43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ost common robotic platfo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s at least 8 ser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 design called Bob by Steve Stancliff based on the the Thing platform use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2 Serv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bob" descr=""/>
          <p:cNvPicPr/>
          <p:nvPr/>
        </p:nvPicPr>
        <p:blipFill>
          <a:blip r:embed="rId1"/>
          <a:stretch/>
        </p:blipFill>
        <p:spPr>
          <a:xfrm>
            <a:off x="685800" y="2073240"/>
            <a:ext cx="380988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s with the most common robotic platfo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o many ser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o many batt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ery complicated mov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ery complicated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bob" descr=""/>
          <p:cNvPicPr/>
          <p:nvPr/>
        </p:nvPicPr>
        <p:blipFill>
          <a:blip r:embed="rId1"/>
          <a:stretch/>
        </p:blipFill>
        <p:spPr>
          <a:xfrm>
            <a:off x="685800" y="2073240"/>
            <a:ext cx="380988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vantages of my platfo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$$$ -- relatively inexpensive at ~$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e movements = simple program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aptable -- boxy shape is good for adding stuff i.e. camera, sensors, arms, head, etc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rns on it’s own ax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2T01:27:54Z</dcterms:created>
  <dc:creator>User</dc:creator>
  <dc:description/>
  <dc:language>en-US</dc:language>
  <cp:lastModifiedBy>User</cp:lastModifiedBy>
  <dcterms:modified xsi:type="dcterms:W3CDTF">1999-12-02T05:26:52Z</dcterms:modified>
  <cp:revision>8</cp:revision>
  <dc:subject/>
  <dc:title>Sparky the Robotic Dog By: Mike Gerhard</dc:title>
</cp:coreProperties>
</file>